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F08F-AD9B-48DA-806B-E2AB16905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02FC-89CA-4F44-8DAE-A93FA13A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60F6-E528-449E-BB36-0BFFAC1A7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C581-FBA6-4C1E-89EB-663563F0A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738A-AC78-4936-8F19-7C9CCE85F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150F7-CEFA-4AB2-93BC-F1C4695E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60706-1418-4591-9384-484FD8D1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6011-2A8D-4D27-A026-47383A64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C8CF-64B9-4C07-B126-548E0991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FFB23-BBC9-4A76-A103-67CC6F8F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1759-FAC0-4175-BEBE-7F687303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C8F3-BAFF-42E8-889C-153B2087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940D3-80FE-4688-8882-AC55303C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705D-BBFB-4251-8901-9D46872E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0A97-528C-4253-8D8D-24E6177D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B740-0DC0-47D9-952F-DE7A7120E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39B2-DE9A-4D99-AF9A-D7E3B9C08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551456-2462-4BBA-AE08-9DF6CE1F1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FF2141-C75C-42C6-A89C-19B8C347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89F248-9702-46E7-9A60-2EC3ED0A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E1BBC3-337D-4DB4-916B-3268DA4E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2148D9-20B6-4D9E-A5F4-4BE348C3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E6A6-4904-4B89-9B8D-BB04DD76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39378D-6BF5-48D4-9E2E-459094F4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36DCCE-8226-47A4-A38C-E3067985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7721D0-CBB6-4C8B-BDE5-3EC1DDB1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16CC42-D0F9-485C-96F6-A4051C27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E9B621-1458-4E51-B2B5-655E98AD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7469AC-1481-4452-9374-FD784D901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950385-70B9-4B3D-B81B-B4FE79209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D16F5-7359-4F43-B97D-3C14E9AB8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67DDF-F630-47C7-B285-EF0F76E4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359FB-8822-46F6-9E05-D7073496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3A5E-0BA2-4257-8C92-7DFB83D7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E750B-88A3-4DFC-A216-C7544F87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B5E77-DB17-4F16-9EBE-74EF3D54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00E64-E7B8-40EB-95E0-3A575602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6C3ED-DAEB-401B-AC82-E6DAA819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6FE79-788F-4CAE-BCF2-13F60E3A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11954-8845-4567-9879-136DB8E2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A9D10-45F7-4CC2-B2CF-365F4D4F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4A971-1D4E-4CCA-98D5-5EE23DE70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506B6-81B3-46E2-9F53-E0C93F585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9E839E-090A-4DED-8708-5321089EF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E55A-2A29-4438-9D7A-65E5CD25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395B18-3759-40AB-A38F-34AD4F74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8C0594-53B6-4C9C-A135-EBC19FE2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6BC271-5EC9-48DB-B80A-F0A53B9C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651178-F0E6-4866-BC7A-6F086BDE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3E329A-D154-4494-810E-48D8C030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8467ED-4771-4D5D-8970-599E87B2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B0F706-026C-4E0A-9389-F2D57845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7C424E-4D97-4552-850F-DF88A273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0DC5AA-FE9C-48FE-BD2E-E3F2B494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1F89C2-29C3-454F-B839-D4F384EC7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0200-7084-4405-B389-CD2116B0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F5804F-AFA2-43C4-AE2C-33C93643C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97F71A-7575-4230-816E-150DAC057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797ECC-9FDF-4019-80D9-0AF5F4D1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8DE996-F693-4766-8AA3-4ACFB51B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3FBC97-72FE-4510-BF14-745BEDAE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176FDB-60A7-4B4C-9DD8-C1B96912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915CD2-BF72-421E-9898-F73FD66D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588C72-D3F2-4C20-A1A8-1D3E87E9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FF0948-3CBB-48BB-AC04-6C654D25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22B368-04F6-4288-AB98-247773DA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619E-3F4C-417F-95F1-E55E9025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A8C64C-515F-4EEA-8088-B5395E04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2B27EA-0914-413F-8686-DF2A35B73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5932A3-3A97-40FF-B205-DF3EB26E6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2E5713-75D1-4A72-8522-1EC84BF8D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4A779D-DA5D-4B87-8B30-A79B4D62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F5C561-CF5A-49E1-9AC0-513007B5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0F2283-34E6-495E-9178-4D205CAC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AE5B5B-521A-49C6-9A52-316841D8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3BD01A-2904-4F28-B773-C0B8607E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96FE38-E21E-4B33-A863-900404E8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D137-9A6B-47D6-B42F-7C1A75A7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9BCEDA-D75B-46FD-BA96-4F290F7E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31F0CC-FCFD-4BD9-A7B3-46B206FA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CB9AEE-DE9B-4BFA-829A-A082CBE4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346432-1B3B-475C-B4DA-4132DEC6C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C056E5-94CE-431B-9B08-80FFDF1FC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0528-BC14-443D-A5E8-B2942A73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E099-0C15-40D3-AD7D-6C43A601815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37C5-DE4F-4818-9A2A-C63BDD0FCE7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E231-02B1-400C-9CDC-8B692A12001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84BC-1B2A-4509-B3EA-9CF3E9BCBD7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62C7-F4E5-4DF3-9035-998D0659C1D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14D0-DC40-4D03-8357-99C2A4265F1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A0F3-2BF1-4631-8B5E-CB30DDCCE69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CHAPTER ON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Story of Journalism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THE GOLDEN AGE OF YELLOW JOURNALISM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earst, Pulitzer, and the Spanish-American War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ensational coverage of Cuban rebels’ fight for freed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flamed reader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ressured politician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ar was declared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irculation of newspapers skyrocketed $$$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ere can we see yellow journalism today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NEWS IN THE MODERN AG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adio and television brought an end to newspapers’ media monopol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Radio: the first medium to provide 24-hour stream of news coverag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elevision journalism: Came of age in the 1960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1963: Nonstop coverage of the Kennedy assassina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wspapers’ response to competitio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ighter writi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etter formatti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mproved desig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orporate consolida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NEWSROOM HEROES, LEGENDS, AND FOLKLORE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ighlights from the history of journalis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ark Twain, Lois Lane, </a:t>
            </a:r>
            <a:r>
              <a:rPr b="0" i="1" lang="en-US" sz="2100" spc="-1" strike="noStrike">
                <a:solidFill>
                  <a:srgbClr val="000000"/>
                </a:solidFill>
                <a:latin typeface="Century Schoolbook"/>
              </a:rPr>
              <a:t>All the President’s Men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i="1" lang="en-US" sz="2100" spc="-1" strike="noStrike">
                <a:solidFill>
                  <a:srgbClr val="000000"/>
                </a:solidFill>
                <a:latin typeface="Century Schoolbook"/>
              </a:rPr>
              <a:t>Good Night, and Good Luck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ve myths about reporter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ty slang terms for ‘reporter’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f6d"/>
                </a:solidFill>
                <a:latin typeface="Century Schoolbook"/>
              </a:rPr>
              <a:t>THE RISE AND FALL OF AMERICA’S FIRST NEWSPAPER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690: Benjamin Harris published the first and only issue of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Publick Occurrences Both Foreign and Domestic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 pages – print on three pages with fourth left blank for citizens to add more news and pass alo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acked printing licen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ccused of containing “doubtful and uncertain Reports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THE ZENGER TRIAL AND FREEDOM OF THE PRESS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735: Freedom of the press strengthened in the coloni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John Peter Zenger jailed by governor for libel after printing accusations of corrup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ventually acquitt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itizens can criticize governmen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Libel only occurs when “false, malicious, and seditious” statements are printed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ndrew Hamilton was Zenger’s lawye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ATRIOTISM, PROPAGANDA, AND THE REVOLUTIONARY WA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729: Ben Franklin took over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Pennsylvania Gazett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making it the boldest and best paper in the coloni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765: The Stamp Act imposed heavy tax on printed matter. Editors protested and colonists united in forcing repeal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volutionary discussions heat up. Editors become bolder, exerting political influence and exhorting military actio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ATRIOTISM, PROPAGANDA, AND THE REVOLUTIONARY WA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y 1775: Isaiah Thomas, publisher of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The Massachusetts Spy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demanded independence from Englan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776: The Declaration of Independence first appeared publicly in the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Pennsylvania Evening Po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and was reprinted in 20 other colonial pape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791: The Bill of Rights provided that “Congress shall make no law…abridging the freedom of speech or of the pres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MERGENCE OF THE PENNY PRES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novations in printing allow for faster news acces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heaper pape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aster printi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833: Benjamin Day began selling the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New York Su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for a penny a copy, pioneering the idea of ‘mass media’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se newspapers aimed at the interests of the common citiz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HE RISE OF THE MODERN NEWSROO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wspapers become profitable with ad sa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ire and train reporters in professional wa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THE GOLDEN AGE OF YELLOW JOURNALISM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Yellow Journalism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ensational stori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Lavish use of pictur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omic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eatur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rusad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ublicity stunt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Rumor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ached climax when William Randolph Hearst (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New York Journal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and Joseph Pulitzer (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The World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battled for supremacy in New York, the nation’s media cent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9T20:17:08Z</dcterms:created>
  <dc:creator>Administrator</dc:creator>
  <dc:description/>
  <dc:language>en-US</dc:language>
  <cp:lastModifiedBy>Administrator</cp:lastModifiedBy>
  <dcterms:modified xsi:type="dcterms:W3CDTF">2013-07-21T20:29:10Z</dcterms:modified>
  <cp:revision>15</cp:revision>
  <dc:subject/>
  <dc:title>Chapter one</dc:title>
</cp:coreProperties>
</file>